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09E4F-5FE6-4C20-B963-3A14DB54FD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F2BAE-E267-4159-A197-31E72C630E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A4DBB-1698-45BA-8E75-31AD05595C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98434-7B1C-4656-AEE0-6E9815377C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54B57-3ADB-4C37-B79F-4CF4D88FC7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65B6B-E82C-41EC-B733-46BC90C530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1EDFA-534B-4041-9254-3471060072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14F98-824E-43BA-8209-E3F0832A08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0BA55-BFC3-4CF4-B90B-A2B389C818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6A3FB-604C-45F9-AB50-4A9DBC135A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6229A-E877-42B2-A362-15218F0801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D25EE-480A-44B3-816F-9E74E3D56D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816FD-36D2-46DC-B0FA-1FDE16CAA7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06036-0571-438C-8680-1916D82D5F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05C7-4BAB-4759-8A60-413AE3E05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F3C1-1FD0-48CA-8CBF-3635D9CFE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847A-2C5E-41A9-A8EF-E321F688F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93E2-4D4E-4600-B1ED-3BE6A2673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17B76-7475-408F-A3C9-24DA4C1C0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AFCA1-85ED-4323-85B0-F569DF87C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DBBA2-E375-4D92-8665-3B777E8BF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8C448-05B9-4912-8F58-ADDF88EAB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EAEBB-EBF8-4A90-98E0-921C270BE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0C413-1946-4427-968F-3F3511B2F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920EF-1D49-4ADD-8AB6-70711DE9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E884-CA24-42B7-961D-6363461E2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9F85E-3D78-4B7B-9959-67D01091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A6A1E-7A73-4DC6-A992-C1D6248D9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28169-2C36-4149-9CE4-F4F8BC75B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E2D39-E1E6-4B03-8B2F-A7BF487B9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8F183-BEA4-4323-A7C2-255E44397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EE5DA-2D23-496F-8D1C-58404923E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7B5F1-5C97-4996-B6F2-94EEDD7D9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27F1B-81BD-432C-87A4-4D905DEAC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31BE4-CF5B-4183-87F4-B18F16DEC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F3C91-F2BA-4699-B5E8-D98C2B094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15C5-5EEE-40E8-978B-F8EA9752C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F31ED-0D7B-40E5-8146-329C8ED62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C08E0-2784-4503-A480-4D4B0D52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02244-A0CE-4E83-93DB-B5D42F1F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D5E27-E36F-466D-A0A6-36A89086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239A8-AD37-4B4C-85CB-CA819ECD0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B109D-5690-4270-A815-1B57F524B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AD826-36E4-436E-8BA4-441BA93DF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E6785-F093-4535-B712-C8FBE781C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DA64B-AF37-4B10-8321-D5F69621C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12E07-ECDF-49E0-A55E-749E8EE85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6DF8-0C4E-4827-9972-D1D672B72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9F31E-DE3A-4C0E-B8D7-E699C2173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6BF3B-E94A-4D46-9CD5-0998B2E07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B871F-3C1B-45D2-B484-B1F8C08BF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3738B-5AFE-4848-9574-A7820C07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C1625-73AE-4366-B555-9CB60877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2915D-DD0B-4CE6-8F5B-5F81D9BC3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103BC-8489-4362-8DD8-247A6E091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1C071-259E-4ABF-9DD8-819499522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51FAB-F1AD-4E12-A036-98C343B80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2D1F-B55D-41D7-BABF-028FE8467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39C9-4127-4DA0-90C1-2AEEAAF67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3B4E-743B-4D1F-88AE-1A1ED884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962A-A8AA-4CA4-9ED2-48CC3513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B0CD-3FAB-4A5D-8CEB-6841E71C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579F2-7089-445A-9B6F-DC0E05DAF80C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45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D3B33-B6F0-4408-98DB-F9B91028F438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6C1BC-7F07-4D35-A61E-D0782536EDF8}" type="slidenum">
              <a:rPr b="0" lang="en-U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32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F736F-49EF-4E7D-A9E6-969F5B105262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1600200" y="137160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rebuchet MS"/>
              </a:rPr>
              <a:t>Renewable Biofuels</a:t>
            </a:r>
            <a:endParaRPr b="0" lang="en-US" sz="7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http://static.guim.co.uk/sys-images/Guardian/Pix/maps_and_graphs/2010/01/22/USGrainBiofuel.gif"/>
          <p:cNvPicPr/>
          <p:nvPr/>
        </p:nvPicPr>
        <p:blipFill>
          <a:blip r:embed="rId1"/>
          <a:stretch/>
        </p:blipFill>
        <p:spPr>
          <a:xfrm>
            <a:off x="228600" y="171360"/>
            <a:ext cx="777240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http://t1.gstatic.com/images?q=tbn:ANd9GcSffdwPnwYItMrsn7LrW7SQZZDr2_X_DqsfDh-3ceZ6ldevdkzfLg"/>
          <p:cNvPicPr/>
          <p:nvPr/>
        </p:nvPicPr>
        <p:blipFill>
          <a:blip r:embed="rId1"/>
          <a:stretch/>
        </p:blipFill>
        <p:spPr>
          <a:xfrm>
            <a:off x="0" y="0"/>
            <a:ext cx="8839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What is Senator Warden’s Problem?</a:t>
            </a: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http://www.sailhome.org/Concerns/BodyBurden/Sources3/CornSyrup_files/Corn_USDA_map.png"/>
          <p:cNvPicPr/>
          <p:nvPr/>
        </p:nvPicPr>
        <p:blipFill>
          <a:blip r:embed="rId1"/>
          <a:stretch/>
        </p:blipFill>
        <p:spPr>
          <a:xfrm>
            <a:off x="457200" y="228600"/>
            <a:ext cx="865044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9" name="Picture 2" descr="http://www.farmpolicy.com/wp-content/uploads/2007/09/ethanol_map.jpg"/>
          <p:cNvPicPr/>
          <p:nvPr/>
        </p:nvPicPr>
        <p:blipFill>
          <a:blip r:embed="rId1"/>
          <a:stretch/>
        </p:blipFill>
        <p:spPr>
          <a:xfrm>
            <a:off x="304920" y="304920"/>
            <a:ext cx="739116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http://sdcorn.org/documents/charts/thumb_US-Corn-Use-for-Ethanol-2010.jpg"/>
          <p:cNvPicPr/>
          <p:nvPr/>
        </p:nvPicPr>
        <p:blipFill>
          <a:blip r:embed="rId1"/>
          <a:stretch/>
        </p:blipFill>
        <p:spPr>
          <a:xfrm>
            <a:off x="0" y="0"/>
            <a:ext cx="8621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http://lmi.ides.state.il.us/lmr/jun09/chart2_3.jpg"/>
          <p:cNvPicPr/>
          <p:nvPr/>
        </p:nvPicPr>
        <p:blipFill>
          <a:blip r:embed="rId1"/>
          <a:stretch/>
        </p:blipFill>
        <p:spPr>
          <a:xfrm>
            <a:off x="0" y="457200"/>
            <a:ext cx="90108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4" descr="http://www.weeklytimesnow.com.au/images/uploadedfiles/editorial/pictures/2010/10/19/grain-map-642.jpg"/>
          <p:cNvPicPr/>
          <p:nvPr/>
        </p:nvPicPr>
        <p:blipFill>
          <a:blip r:embed="rId1"/>
          <a:stretch/>
        </p:blipFill>
        <p:spPr>
          <a:xfrm>
            <a:off x="304920" y="304920"/>
            <a:ext cx="784836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7T06:39:43Z</dcterms:created>
  <dc:creator>Teri Osborne</dc:creator>
  <dc:description/>
  <dc:language>en-US</dc:language>
  <cp:lastModifiedBy>Teri Osborne</cp:lastModifiedBy>
  <dcterms:modified xsi:type="dcterms:W3CDTF">2012-01-13T03:35:52Z</dcterms:modified>
  <cp:revision>14</cp:revision>
  <dc:subject/>
  <dc:title>Renewable  fuels</dc:title>
</cp:coreProperties>
</file>